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6AA-35AD-4720-9946-6264C13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536-0EA8-43A2-ADE1-558DEA01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B12-7BDE-44EB-A461-1CC01BD3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8E6-9522-4A74-931E-D0410D01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BAB1-218E-4942-9581-6FBC4D66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BE07-CE38-427B-A264-DDC982B9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713F-57CE-4EBE-ABEA-7888B07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1101-207B-4EDD-8CC1-E0C5F28F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BFEF-8F93-46F6-A3F5-E8EFB89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6266-F6D8-46A8-9408-A0E58D9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1397-DFE7-4C9C-BABC-CF9185F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603-F919-44AE-ABE3-62751C73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182D-B7B5-41F2-B575-3B96A4BF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3848-3D9C-437D-B312-79CEE96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CADB-7820-429F-836B-1F4AC4AC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ADD8-0D17-4D4E-A99E-0BD9A1F7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77B6-9243-4D9A-81BE-9BBA8E7F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BDC-08FB-443E-A30F-CCD6616F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9DA-45FA-4899-A538-8E56A345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1B4-5AB1-4225-80DB-8416F584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1CF-02EB-486C-9CD0-84B149E8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464-326C-4693-ADAA-AF576A5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A70-4379-4AEE-BAB4-5D12B01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17F-F46C-4ECB-8F02-42EE177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53BA-FBFE-40C8-9B05-6931D9CF0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2E26-BE0F-4369-AB19-1B42ADE70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ina, brides traditionally where bright red, putting on crimson appar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middle ages in England beer were often served with break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2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your life be like if your were 6 inches t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m, a major world religion, is dominent in the middle east, it’s followers are called muslims, and it’s sacred book in the ko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Grandfather a world War II veteran heard president Truman anounce that the United States had dropped the first atomic bomb on hiroshima Japan, three day later, a second a-bomb was dropped on nagasak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24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letters of the alphabet vertically on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26 sentence journal entry about whatever you would like; as long as each sentence starts with the corresponding letter of the alphab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ccurs when the subject performs the action.  In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subject of the sentence is acted on by another agents.  Look at the following exam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nuffles was taken to the vet by my m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 Vo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y mom took Snuffles to the v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iminate the passive voice from your writing as much as possible.  In the beginning, it will seem impossible, but after a while it will get easier, and you’ll notice that your writing has become far more inter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267080"/>
            <a:ext cx="8763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write the following sentences, changing the passive voice to the active voi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The exam was administered by the teac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Georgia’s outfit was chosen by the saleswom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The city was invaded by barbar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4:30Z</dcterms:created>
  <dc:creator>tpagel</dc:creator>
  <dc:description/>
  <dc:language>en-US</dc:language>
  <cp:lastModifiedBy>tpagel</cp:lastModifiedBy>
  <dcterms:modified xsi:type="dcterms:W3CDTF">2010-06-03T16:55:30Z</dcterms:modified>
  <cp:revision>1</cp:revision>
  <dc:subject/>
  <dc:title>Warm-Up Sentences</dc:title>
</cp:coreProperties>
</file>